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B398-2BFB-4B94-B373-05F7FD99EE6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CA98-D81E-49CC-A8BA-35101369488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1190-7B10-4D60-BE90-1A775789A23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638-D154-43A1-AD80-2FE8AE166B7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7B3-AA35-4930-AE37-AA9626F2557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hallenges in partnerships – espeacially bringing together partners for working sessions an institutional challenge or an operational challe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3ED-2724-496C-A375-046DDEF9953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29B-AA4A-4EAB-81E1-9F492E8A638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BBE-BC22-4019-BDB0-1D2397FCDF8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4E72-646B-4936-9844-4FE6E5C9F98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not sure what you mean by Tapping into collective talents?  Slide 7 addresses this issue, but I could not really understand what it is trying to say, perhaps it’s a language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BC51-2354-400B-8FC3-20093D4F7E2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state at the outset what SETSAN stands for – Technical Secretariat for food and nutrition secur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, you need to differentiate between box 1 and box 4 at the top; I know you will speak about it, but right now, to me both boxes mean the same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587-CA4E-47E5-A6D4-DE7768F017F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mean by provincial structure? – you should say whether it’s a focal point (one person) or a Un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08BC-4411-452D-9B69-11493BC24B4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interest is in how SETSAN has managed to operate through public-private partnerships, you should emphasise that this is how the working groups are com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9F6-E452-4C4D-84AF-1ED23E95BEE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313-32C3-4248-A3E9-4816A6B53E0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quite understand the meaning behind the title you gave to this slide. I changed it slightly, but it still does not make much sense to me, especially in regard to the points listed bel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02BD-ECBC-4669-9F57-81BF41DAFAD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C3A-64A1-422B-A024-F57F89C6DA1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283-A431-452F-9446-FF218286F9D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642-3910-4954-A5F9-C33A9F24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1DF-2C4A-4281-8EF4-86769A5C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568-E88C-499B-A9DA-AEE942A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0E7-6956-4552-BE33-9E7D443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3208-B945-4F69-A7AA-F17CACD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D3A0-EA09-42A1-ACA8-6FBA02A4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74AA-1ACF-4964-B44F-86FBBF77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739D-FF3C-43AD-860A-53CF83F3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D8A-76AD-47FD-8E8E-F508FDD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E0F9-D353-4BB9-A7C1-C9A6B383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562-EBD7-4F34-910D-0827697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4D1-9F72-4840-B04C-BB723E3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7709-F8DF-4E7B-8B9D-D036BEE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8976-691C-4581-81E6-3718CD77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DD2-00EE-44CE-BD93-3B019716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DCAF-FED6-4EC6-B650-5FC91F8C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5DDB-B974-49F5-AA0A-194BA278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70F-4C7E-4B85-8D40-2BD9736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C58-A440-4F6B-B057-74CD7D75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6D0-98A2-4605-8791-731F228A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C85-D998-495E-888F-72C1D6B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24E-13C0-46B0-A9B8-119EB3D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EEC-3B6D-4877-988E-1DFE71E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3D2-B2E3-4A6A-B225-002B8150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45B-545C-4DAE-8ECC-4C30C4F0CE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0D86-9ECA-4D2C-A590-21A7E5F8C2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Innovative Approach to Country Capacity and Institution Building 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Food and Nutrient Information: Achievements and challenges 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Food Security Information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Nairobi- Ke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8-9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Logo Setsan"/>
          <p:cNvPicPr/>
          <p:nvPr/>
        </p:nvPicPr>
        <p:blipFill>
          <a:blip r:embed="rId2"/>
          <a:stretch/>
        </p:blipFill>
        <p:spPr>
          <a:xfrm>
            <a:off x="0" y="0"/>
            <a:ext cx="145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- Cont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Strategic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mainestread into sevreal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FYP -2009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N III -2009-2015 (HIV and 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ENPSB -2010-2020 (Social Prot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RSP 2010-2015     (Pov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AMRDC 2010-2020 (Nutr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DSA 2011-2020  (Agricultur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DICEPE 2011-2020 (Education- in 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now  beeing taught in 2 public Universities  (UEM and Uni-Lu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Annual 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gency plan integrating the VA- FInS people 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scenarios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ocial and Economic  Plan with key FSN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2EA-1062-4126-B59C-871232DBD5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Coordin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litical will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bility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ational Directorate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the minimal level that allows to influence the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udget lin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National and  Provincial levels  is cru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owering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ivil society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ivate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ong coordination may help stakeholders to increas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ransparenc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 build 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 timely and credible reports, Flashes, Maps and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sis and report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ols preparation: ToRs, questionnaire agreed by differen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8580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0"/>
          <p:cNvSpPr/>
          <p:nvPr/>
        </p:nvSpPr>
        <p:spPr>
          <a:xfrm>
            <a:off x="5867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399B-11FF-4E0B-9714-E8F8CD9443CF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 (Cont…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142640"/>
            <a:ext cx="83822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ountry (national &amp; provincial levels) , RVAC  and SCFS-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keholders and disseminati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orts should be in  Portuguese and 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site  and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manent advo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semination MUST be on timely manner (Jun/Ago , Nov/Dec,  Fev/M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F92-2A38-49A7-A115-59083BA2D5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815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2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SETSAN –structure and with Staff with multidisciplinary skills and from different institutions (national and provinci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itutional capacity at provincial level (computers,  and c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of Partnerships  taking in consideration that institutions may have different agenda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inging partners together for work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on of National Council for F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engthening of FS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kle Urban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have some balance between the Rural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hronic and acut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ulner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vise FSN Baseline (2011-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ing Targeting of vulnerab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 the dynamic FSN data base in nation and sub-national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9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D8E-78D5-4C9A-A6FC-E5A678DCE437}" type="slidenum">
              <a:rPr b="1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- Cont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56280" indent="-31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tinue to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ollection, including P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data base  and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NS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mption M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s and analytical FSN tools  -including  GIS and m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ort wr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motion of best practices on FSN at commun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wareness Stun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tive campaigns to promote best FSN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5455-8B52-4895-BB2F-023CA13B2A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structure can be replicated at national, subnation and regional levels (ex. SETSAN for CPLP- Community of Portuguese- Speak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can act as techinal service provider for Natinal Council for FSN as way to bring political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Ownership and political will are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Multisectoral and Multidisciplinary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F27-DA26-4081-9293-5D3F291909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Picture 3" descr="Logo Setsan"/>
          <p:cNvPicPr/>
          <p:nvPr/>
        </p:nvPicPr>
        <p:blipFill>
          <a:blip r:embed="rId1"/>
          <a:stretch/>
        </p:blipFill>
        <p:spPr>
          <a:xfrm>
            <a:off x="0" y="5105520"/>
            <a:ext cx="846000" cy="99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8426520" y="54100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457200" y="320040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Obrigada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Merci Beauc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Kanimam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03240" y="6171480"/>
            <a:ext cx="2260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Gill Sans MT"/>
              </a:rPr>
              <a:t>www.setsan.org.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3"/>
          <p:cNvSpPr/>
          <p:nvPr/>
        </p:nvSpPr>
        <p:spPr>
          <a:xfrm>
            <a:off x="6705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07B-65D4-4AF3-B988-782DB78560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693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tents of the present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What is SETS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rgan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to tap into collective talent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information can be feed into policy decis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chiev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ssons Learn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 Setsan"/>
          <p:cNvPicPr/>
          <p:nvPr/>
        </p:nvPicPr>
        <p:blipFill>
          <a:blip r:embed="rId1"/>
          <a:stretch/>
        </p:blipFill>
        <p:spPr>
          <a:xfrm>
            <a:off x="45720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9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9CE-E0CA-46E7-8C8B-5F8F1694198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What is SETSAN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3" descr="Logo Setsan"/>
          <p:cNvPicPr/>
          <p:nvPr/>
        </p:nvPicPr>
        <p:blipFill>
          <a:blip r:embed="rId1"/>
          <a:stretch/>
        </p:blipFill>
        <p:spPr>
          <a:xfrm>
            <a:off x="144360" y="56386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78876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D60-86A1-4243-BFC9-62940F2E037F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971800" y="3124080"/>
            <a:ext cx="3505320" cy="1524240"/>
          </a:xfrm>
          <a:prstGeom prst="ellipse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TSAN off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 central 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 provincial off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4724280"/>
            <a:ext cx="85345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date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cree 24/2010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uncil of Minister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ensuring  coordination of multi-sectoral actions and promotion of FS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457200" y="1371600"/>
            <a:ext cx="21337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ulti-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505320" y="1295280"/>
            <a:ext cx="213336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forma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6477120" y="1219320"/>
            <a:ext cx="22651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or N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ETS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tructur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E19C-CC3C-477B-9F20-187E097A54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8381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6095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6"/>
          <p:cNvSpPr/>
          <p:nvPr/>
        </p:nvSpPr>
        <p:spPr>
          <a:xfrm flipV="1">
            <a:off x="5105520" y="1828800"/>
            <a:ext cx="14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7467480" y="2590920"/>
            <a:ext cx="1524240" cy="12952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Techinical S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Head of Dpts Gov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, Dono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543800" y="16002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nsultive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Nat Director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 , Donors)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733920" y="1447920"/>
            <a:ext cx="2666880" cy="53316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SETSAN 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MINAG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733920" y="281952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Executive Secretar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(SETS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 flipV="1">
            <a:off x="2285640" y="4267080"/>
            <a:ext cx="609588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5105520" y="41911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6400440" y="1676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640044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42900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Policy and   Planning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5257800" y="4495680"/>
            <a:ext cx="175248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echnical  Servic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rain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vocay and communic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1148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4038480" y="5791320"/>
            <a:ext cx="228600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PROVINCIAL STRU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DO SET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5562360" y="5181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114800" y="5105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167652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Coordination of FSN Informa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7543800" y="4495680"/>
            <a:ext cx="121932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minist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ive and Finance 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2286000" y="51055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H="1">
            <a:off x="6324120" y="51055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6"/>
          <p:cNvSpPr/>
          <p:nvPr/>
        </p:nvSpPr>
        <p:spPr>
          <a:xfrm flipV="1">
            <a:off x="5103000" y="3354120"/>
            <a:ext cx="3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6"/>
          <p:cNvGraphicFramePr/>
          <p:nvPr/>
        </p:nvGraphicFramePr>
        <p:xfrm>
          <a:off x="609480" y="2057400"/>
          <a:ext cx="1656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65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27"/>
          <p:cNvSpPr/>
          <p:nvPr/>
        </p:nvSpPr>
        <p:spPr>
          <a:xfrm>
            <a:off x="6324480" y="304920"/>
            <a:ext cx="2362320" cy="1143000"/>
          </a:xfrm>
          <a:prstGeom prst="ellipse">
            <a:avLst/>
          </a:prstGeom>
          <a:solidFill>
            <a:srgbClr val="0aff85"/>
          </a:solidFill>
          <a:ln w="25560">
            <a:solidFill>
              <a:srgbClr val="0af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binet of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5866920" y="9144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How SETSAN operat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main Units - Information and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working Group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VAC ( Inform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lanning and  Decentralization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Training on FSN and RtF concepts and tools (bo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Right to Food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focal point at  Provinci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C11-ED0E-4233-AE7E-EB8D6607AB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To operate effectively WG should hav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mon vi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Terms of Refe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hair  with defined focal points from de sectors, NGO and UN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Workplan (timeline, defined prior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Expected products (Reports, InfoFlash, Press release, Panflets, maps, modules, etc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ccess to resources (Needs identication: Technical Assistance,Training, Funds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78A-CAAF-41AB-B76D-EFE9162B94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to tap into collective talents?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igment of 10 MAIN FSN activities on the Social and Economic  Plan  (PES –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lanning meeting with United Nation Organizations (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l/Ag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nual SteeringCommittee Meeting  (Govt head of Sectors, Provincial SETSAN, UN, Donors, Ngos) –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Nov - at provinci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ultative Council of Nat Directors, Heads Ngos, UN Reps, Heads  Donors)-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Dec- chaired by the Minister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2E2F-AF4C-449E-BFBC-B3B8C5475E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information is fed into policy decision making?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binet of Ministers  (twice a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N- Forum (at least three times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atural Disaster Committee (Contigency pl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s release (as needed)– to advocate F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conomic and Social Plan – (on 3 M&amp;A Reports submited to M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ual Operative Plan – (quarterly reports submited to MIN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ring the design of strategic documents (Govt, NGOs, UNs, Donor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2B2-05FE-4A95-A66B-CEC1213685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stitu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 Budget line  since 2005 within the Nat. Directorate for Agraria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framework  for the creation of SETSAN (Decree 24/2010, approved by the Council of Minist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igned independent state budget to SETSAN in 2011  SETSAN  (activities and operational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ute of SETSAN is in progress (to be approved by an inter-ministerial Govt. auth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SN Baseline 2006- with interview to 6000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od Security and Nutrition Plan of Action and Strategy (ESAN II-2008-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ing prepared by National Statistics Institute with statistical validity at Provi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C reports disseminated (SADC/RVAC, at national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Independent  impact evaluation  of the process and products  (2009</a:t>
            </a:r>
            <a:r>
              <a:rPr b="0" lang="pt-PT" sz="2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Logo Setsan"/>
          <p:cNvPicPr/>
          <p:nvPr/>
        </p:nvPicPr>
        <p:blipFill>
          <a:blip r:embed="rId1"/>
          <a:stretch/>
        </p:blipFill>
        <p:spPr>
          <a:xfrm>
            <a:off x="152280" y="6095880"/>
            <a:ext cx="69372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835488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7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A2DA-8409-4228-8D4C-70AD65703FEF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05:04Z</dcterms:created>
  <dc:creator>Francisca</dc:creator>
  <dc:description/>
  <dc:language>en-US</dc:language>
  <cp:lastModifiedBy>Valued Acer Customer</cp:lastModifiedBy>
  <dcterms:modified xsi:type="dcterms:W3CDTF">2011-09-09T05:40:45Z</dcterms:modified>
  <cp:revision>133</cp:revision>
  <dc:subject/>
  <dc:title>Slide 1</dc:title>
</cp:coreProperties>
</file>